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0E8-F7C9-4484-81CD-2D215D8C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470-9A2C-4D1D-8873-E95A826D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08B-F157-42A8-BEC8-2BAF62C5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C2B-68A5-45A0-9DD6-F89D25AA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179-ED39-483B-A18C-AAA6FEFD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AA2-58B6-497A-B48A-A27B25C8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978-D3D4-48DF-A541-4311F6B7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8E3-A762-4445-AEB0-76FBF273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83F-62D6-478C-818B-3EB3ADF7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917-B31E-4AB6-8A5F-F28B12E9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4B0-A903-4176-A55E-A275CE55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5D9-460C-4D16-944D-299DFB0B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002A-8BF9-43DB-AC13-B3DD929A2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rder of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5160" y="1905120"/>
            <a:ext cx="9078840" cy="220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2819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grou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138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iv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581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sing the Orde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09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891540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20" y="1077840"/>
            <a:ext cx="9123480" cy="2351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2286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362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228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1722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458200" cy="598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7369200" cy="4297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3429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10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352680"/>
            <a:ext cx="9144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5334120"/>
            <a:ext cx="8380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522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sing Grouping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05560" cy="4597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3880" y="1447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962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3716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388620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958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381880" cy="22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6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44:28Z</dcterms:created>
  <dc:creator>Susannah Graham</dc:creator>
  <dc:description/>
  <dc:language>en-US</dc:language>
  <cp:lastModifiedBy>Graham</cp:lastModifiedBy>
  <dcterms:modified xsi:type="dcterms:W3CDTF">2011-08-18T12:54:49Z</dcterms:modified>
  <cp:revision>3</cp:revision>
  <dc:subject/>
  <dc:title>Lesson 1.2 The Order of Operations</dc:title>
</cp:coreProperties>
</file>